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C9A-45E7-4C95-99B1-681EE5D1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8653-B123-44E8-A54C-B5F6F977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61D-CB67-46A5-B030-FF7AFA8C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D2F-1409-4DD4-B45F-0E6372AF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47AB-927E-47BA-B4BF-F608B7EF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B745-36CF-45E7-A9A7-81B51949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C6D3-8060-40F4-97BF-0972EBF8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20B0-F719-4F6D-A9D9-5B32779D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6BAB-07E1-4966-96DD-2FCBF14C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44A4-B928-4C8F-ADA7-4AC24521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8C7C-1596-4BC8-B5B5-5AF626DB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E3BD-9032-4B03-BDBC-9F690674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66D3-CF13-4D13-A07E-482866E7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CA6D-A942-4056-A769-0E302D66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0AEE-DAFF-4626-AD02-9AACBBDA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D4E7-28C5-41AF-A530-8BE968F8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1281-8A79-4BF5-A592-3B67A3F6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78A-FAF8-488E-BF0B-D2E2879D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A5A3-8C31-41A2-914E-68E10E5B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155-C1F1-4E87-ACA9-8B39B99A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9BB-7A12-4566-86DF-3EBF3A31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8E2-F153-436E-AA17-93319CCD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9D3E-22C2-47DA-9646-F24FA782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6620-2C45-464B-ABFE-0F13F182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EFB1-C8DE-43C1-9470-6F12272E705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806C-FF01-4CCD-863F-BD80ABC1469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csl.org/IssuesResearch/Immigration/ImmigrantPolicyProjectRecentImmigrationDevel/tabid/13140/Default.aspx" TargetMode="External"/><Relationship Id="rId2" Type="http://schemas.openxmlformats.org/officeDocument/2006/relationships/hyperlink" Target="http://www.jstor.org/pss/2172312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eseretnews.com/photos/midres/web-416875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ultural Diversity in German Speaking Countri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ltural Assimilation in German Speaking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: Brian Beck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ncsl.org/IssuesResearch/Immigration/ImmigrantPolicyProjectRecentImmigrationDevel/tabid/13140/Default.asp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jstor.org/pss/21723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bss.sfsu.edu/polisci/documents/Impacts%20of%20Assimulation%20Concepts%20of%20Citizenship%20in%20Germany.pd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ag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ww.deseretnews.com/photos/midres/web-416875.jp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ww.spiegel.de/img/0,1020,1408830,00.jp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tthewbrunwasser.com/wp-content/uploads/2010.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urs.360wichita.com/16240/event_21417.jp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s:/.../1284944661/Map_1914_WWI_Alliances.jp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ajority of post-WWII immigrants were Russian Jew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rmany’s original policy was to form a unified German people through a similar German cul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imilation became difficult after the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entury warfare, due to changes in territorial bord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57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ory (cont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ederal Expellee and Refugee Law of 1953 ensured only ethnic Germans were allowed back in German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debated whether or not German speaking countries should be unified, and has been since the Holy Roman Empire’s cre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l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ently, Turkish Muslims are the largest influx of people into Germany, due to their need for job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y resent Germany’s immigration policy for it tries to force Muslim’s to adopt German culture, which they don’t wa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y Turk’s forego the immigration process by participating as “guest workers”, and after a certain amount of time gaining citizenship for themselves and their famil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4343040"/>
            <a:ext cx="8229600" cy="2171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2095560" cy="2209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419720" y="4343400"/>
            <a:ext cx="4171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ltures (cont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WWII, Russian Jews were the major immigrants into Germany in an attempt to escape communist discrimin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, Judaism is one of Germany’s primary religions, and the Jewish people have become a major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rrent German Polic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January of 2001, Germany created a “birthright policy”, which gave citizenship to those born in the count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ly of that year, Germany instituted a green card policy which immediately brought about 9,000 IT specialists to German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German Chancellor Angela Merkel reads files at the beginning the weekly cabinet meeting at the chancellery in Berlin, Germany, Wednesday, March 23, 2011.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rrent German Policies (cont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rman immigration policies revolve around Labor Migrants, Asylum Seekers, Ethnic Germans, and Contingent Refuge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rman law follows the original edict of the Geneva Convention, which provides safety to foreign refuge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December of 2000, Germany created an employment ban on asylum seekers which limits their work to 12 months and that only if no German citizen is available to take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religious people are currently immigrating to German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are Germans responding to the increase in foreign citize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slamic People or Turkish Musli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mans are opposed to the number of foreigners in German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3:23:19Z</dcterms:created>
  <dc:creator>SCSadmin</dc:creator>
  <dc:description/>
  <dc:language>en-US</dc:language>
  <cp:lastModifiedBy>SCSadmin</cp:lastModifiedBy>
  <dcterms:modified xsi:type="dcterms:W3CDTF">2011-08-31T14:04:15Z</dcterms:modified>
  <cp:revision>6</cp:revision>
  <dc:subject/>
  <dc:title>Cultural Diversity in German Speaking Countries</dc:title>
</cp:coreProperties>
</file>